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FC1-2142-4305-B597-6488D499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859-4E3B-4F6D-AB38-0B9D9F07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CBD-0409-46D4-9D40-B6A28DC6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054-62D6-44D0-AA2F-D0D09D03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EAC-FD14-4601-A619-6824BF3D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AC7-F348-4802-8526-C53AA7DB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7F5-F920-4AA9-AE95-7675129E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2C6-4DF3-4591-A5F7-B94B031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3AB-AC8C-4576-8F82-3F85EDB0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4EC-9B7C-4379-AA34-061175B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7BE-2171-4920-AA67-D03B041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CF0-F666-4D41-90C8-6A01532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3CE-22E5-49F4-8CE4-AEF0E29A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82560" y="0"/>
            <a:ext cx="7561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7714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1000" y="0"/>
            <a:ext cx="7623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0120" y="546120"/>
            <a:ext cx="79437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07-16T03:52:05Z</dcterms:modified>
  <cp:revision>4</cp:revision>
  <dc:subject/>
  <dc:title>PowerPoint Presentation</dc:title>
</cp:coreProperties>
</file>